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9320" y="410724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3120" y="15998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9320" y="41072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3120" y="41072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21400" y="159984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23480" y="159984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9320" y="410724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21400" y="410724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23480" y="410724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3120" y="159984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2640" y="637920"/>
            <a:ext cx="75438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3120" y="159984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41072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3120" y="15998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63120" y="41072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3120" y="15998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19320" y="410724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19320" y="410724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3120" y="15998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19320" y="41072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63120" y="41072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21400" y="159984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23480" y="159984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19320" y="410724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821400" y="410724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423480" y="410724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3120" y="159984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37920"/>
            <a:ext cx="75438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3120" y="159984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1072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3120" y="15998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3120" y="41072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159984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10724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"/>
          <p:cNvSpPr/>
          <p:nvPr/>
        </p:nvSpPr>
        <p:spPr>
          <a:xfrm>
            <a:off x="1203480" y="60480"/>
            <a:ext cx="7711920" cy="398880"/>
          </a:xfrm>
          <a:prstGeom prst="rect">
            <a:avLst/>
          </a:prstGeom>
          <a:noFill/>
          <a:ln cap="rnd" w="38160">
            <a:solidFill>
              <a:srgbClr val="cc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第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章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控制器与定时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计数器及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SIC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019920" y="3049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5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ffcc00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ffcc00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6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4160" y="20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cc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31.xml"/><Relationship Id="rId11" Type="http://schemas.openxmlformats.org/officeDocument/2006/relationships/slide" Target="slide31.xml"/><Relationship Id="rId12" Type="http://schemas.openxmlformats.org/officeDocument/2006/relationships/slide" Target="slide47.xml"/><Relationship Id="rId13" Type="http://schemas.openxmlformats.org/officeDocument/2006/relationships/slide" Target="slide47.xml"/><Relationship Id="rId14" Type="http://schemas.openxmlformats.org/officeDocument/2006/relationships/slide" Target="slide47.xml"/><Relationship Id="rId15" Type="http://schemas.openxmlformats.org/officeDocument/2006/relationships/slide" Target="slide47.xml"/><Relationship Id="rId16" Type="http://schemas.openxmlformats.org/officeDocument/2006/relationships/slide" Target="slide47.xml"/><Relationship Id="rId17" Type="http://schemas.openxmlformats.org/officeDocument/2006/relationships/slide" Target="slide58.xml"/><Relationship Id="rId18" Type="http://schemas.openxmlformats.org/officeDocument/2006/relationships/slide" Target="slide58.xml"/><Relationship Id="rId19" Type="http://schemas.openxmlformats.org/officeDocument/2006/relationships/slide" Target="slide58.xml"/><Relationship Id="rId20" Type="http://schemas.openxmlformats.org/officeDocument/2006/relationships/slide" Target="slide58.xml"/><Relationship Id="rId21" Type="http://schemas.openxmlformats.org/officeDocument/2006/relationships/slide" Target="slide58.xml"/><Relationship Id="rId22" Type="http://schemas.openxmlformats.org/officeDocument/2006/relationships/slide" Target="slide70.xml"/><Relationship Id="rId23" Type="http://schemas.openxmlformats.org/officeDocument/2006/relationships/slide" Target="slide70.xml"/><Relationship Id="rId24" Type="http://schemas.openxmlformats.org/officeDocument/2006/relationships/slide" Target="slide70.xml"/><Relationship Id="rId2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5.xml"/><Relationship Id="rId5" Type="http://schemas.openxmlformats.org/officeDocument/2006/relationships/slide" Target="slide44.xml"/><Relationship Id="rId6" Type="http://schemas.openxmlformats.org/officeDocument/2006/relationships/slide" Target="slide44.xml"/><Relationship Id="rId7" Type="http://schemas.openxmlformats.org/officeDocument/2006/relationships/slide" Target="slide44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8.xml"/><Relationship Id="rId3" Type="http://schemas.openxmlformats.org/officeDocument/2006/relationships/slide" Target="slide56.xml"/><Relationship Id="rId4" Type="http://schemas.openxmlformats.org/officeDocument/2006/relationships/slide" Target="slide56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9.xml"/><Relationship Id="rId3" Type="http://schemas.openxmlformats.org/officeDocument/2006/relationships/slide" Target="slide60.xml"/><Relationship Id="rId4" Type="http://schemas.openxmlformats.org/officeDocument/2006/relationships/slide" Target="slide60.xml"/><Relationship Id="rId5" Type="http://schemas.openxmlformats.org/officeDocument/2006/relationships/slide" Target="slide60.xml"/><Relationship Id="rId6" Type="http://schemas.openxmlformats.org/officeDocument/2006/relationships/slide" Target="slide63.xml"/><Relationship Id="rId7" Type="http://schemas.openxmlformats.org/officeDocument/2006/relationships/slide" Target="slide63.xml"/><Relationship Id="rId8" Type="http://schemas.openxmlformats.org/officeDocument/2006/relationships/slide" Target="slide66.xml"/><Relationship Id="rId9" Type="http://schemas.openxmlformats.org/officeDocument/2006/relationships/slide" Target="slide66.xml"/><Relationship Id="rId10" Type="http://schemas.openxmlformats.org/officeDocument/2006/relationships/slide" Target="slide66.xml"/><Relationship Id="rId11" Type="http://schemas.openxmlformats.org/officeDocument/2006/relationships/slide" Target="slide66.xml"/><Relationship Id="rId12" Type="http://schemas.openxmlformats.org/officeDocument/2006/relationships/slide" Target="slide68.xml"/><Relationship Id="rId13" Type="http://schemas.openxmlformats.org/officeDocument/2006/relationships/slide" Target="slide68.xml"/><Relationship Id="rId14" Type="http://schemas.openxmlformats.org/officeDocument/2006/relationships/slide" Target="slide68.xml"/><Relationship Id="rId15" Type="http://schemas.openxmlformats.org/officeDocument/2006/relationships/slide" Target="slide68.xml"/><Relationship Id="rId16" Type="http://schemas.openxmlformats.org/officeDocument/2006/relationships/slide" Target="slide68.xml"/><Relationship Id="rId17" Type="http://schemas.openxmlformats.org/officeDocument/2006/relationships/slide" Target="slide1.xml"/><Relationship Id="rId18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1.xml"/><Relationship Id="rId3" Type="http://schemas.openxmlformats.org/officeDocument/2006/relationships/slide" Target="slide72.xml"/><Relationship Id="rId4" Type="http://schemas.openxmlformats.org/officeDocument/2006/relationships/slide" Target="slide72.xml"/><Relationship Id="rId5" Type="http://schemas.openxmlformats.org/officeDocument/2006/relationships/slide" Target="slide75.xml"/><Relationship Id="rId6" Type="http://schemas.openxmlformats.org/officeDocument/2006/relationships/slide" Target="slide75.xml"/><Relationship Id="rId7" Type="http://schemas.openxmlformats.org/officeDocument/2006/relationships/slide" Target="slide75.xml"/><Relationship Id="rId8" Type="http://schemas.openxmlformats.org/officeDocument/2006/relationships/slide" Target="slide76.xml"/><Relationship Id="rId9" Type="http://schemas.openxmlformats.org/officeDocument/2006/relationships/slide" Target="slide76.xml"/><Relationship Id="rId10" Type="http://schemas.openxmlformats.org/officeDocument/2006/relationships/slide" Target="slide76.xml"/><Relationship Id="rId11" Type="http://schemas.openxmlformats.org/officeDocument/2006/relationships/slide" Target="slide76.xml"/><Relationship Id="rId12" Type="http://schemas.openxmlformats.org/officeDocument/2006/relationships/slide" Target="slide76.xml"/><Relationship Id="rId13" Type="http://schemas.openxmlformats.org/officeDocument/2006/relationships/slide" Target="slide78.xml"/><Relationship Id="rId14" Type="http://schemas.openxmlformats.org/officeDocument/2006/relationships/slide" Target="slide78.xml"/><Relationship Id="rId15" Type="http://schemas.openxmlformats.org/officeDocument/2006/relationships/slide" Target="slide78.xml"/><Relationship Id="rId16" Type="http://schemas.openxmlformats.org/officeDocument/2006/relationships/slide" Target="slide80.xml"/><Relationship Id="rId17" Type="http://schemas.openxmlformats.org/officeDocument/2006/relationships/slide" Target="slide80.xml"/><Relationship Id="rId18" Type="http://schemas.openxmlformats.org/officeDocument/2006/relationships/slide" Target="slide80.xml"/><Relationship Id="rId19" Type="http://schemas.openxmlformats.org/officeDocument/2006/relationships/slide" Target="slide80.xml"/><Relationship Id="rId20" Type="http://schemas.openxmlformats.org/officeDocument/2006/relationships/slide" Target="slide81.xml"/><Relationship Id="rId21" Type="http://schemas.openxmlformats.org/officeDocument/2006/relationships/slide" Target="slide83.xml"/><Relationship Id="rId2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106488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宋体"/>
              </a:rPr>
              <a:t>第</a:t>
            </a:r>
            <a:r>
              <a:rPr b="1" lang="zh-CN" sz="3200" spc="-1" strike="noStrike">
                <a:solidFill>
                  <a:srgbClr val="66ffcc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66ffcc"/>
                </a:solidFill>
                <a:latin typeface="宋体"/>
              </a:rPr>
              <a:t>章  </a:t>
            </a:r>
            <a:r>
              <a:rPr b="1" lang="zh-CN" sz="3200" spc="-1" strike="noStrike">
                <a:solidFill>
                  <a:srgbClr val="66ffcc"/>
                </a:solidFill>
                <a:latin typeface="宋体"/>
              </a:rPr>
              <a:t>DMA</a:t>
            </a:r>
            <a:r>
              <a:rPr b="1" lang="zh-CN" sz="3200" spc="-1" strike="noStrike">
                <a:solidFill>
                  <a:srgbClr val="66ffcc"/>
                </a:solidFill>
                <a:latin typeface="宋体"/>
              </a:rPr>
              <a:t>控制器与定时</a:t>
            </a:r>
            <a:r>
              <a:rPr b="1" lang="zh-CN" sz="3200" spc="-1" strike="noStrike">
                <a:solidFill>
                  <a:srgbClr val="66ffcc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66ffcc"/>
                </a:solidFill>
                <a:latin typeface="宋体"/>
              </a:rPr>
              <a:t>计数器及</a:t>
            </a:r>
            <a:r>
              <a:rPr b="1" lang="zh-CN" sz="3200" spc="-1" strike="noStrike">
                <a:solidFill>
                  <a:srgbClr val="66ffcc"/>
                </a:solidFill>
                <a:latin typeface="宋体"/>
              </a:rPr>
              <a:t>SICL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96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4.1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DMA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系统概述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4.2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可编程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DMA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控制器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8237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A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4.3  8237A DMA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可编程控制在微机系统中的应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4.4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可编程计数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/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定时器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 8253/8254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4.5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多功能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19" action="ppaction://hlinksldjump"/>
              </a:rPr>
              <a:t>I/O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接口电路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82380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hlinkClick r:id="rId22" action="ppaction://hlinksldjump"/>
              </a:rPr>
              <a:t>4.6  现代微型计算机系统接口控制逻辑（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hlinkClick r:id="rId23" action="ppaction://hlinksldjump"/>
              </a:rPr>
              <a:t>SICL）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  <a:hlinkClick r:id="rId24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67968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4.2.2  8237A</a:t>
            </a: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的外部引脚及其功能特性</a:t>
            </a:r>
            <a:endParaRPr b="1" lang="en-US" sz="28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237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外部引脚共有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，如图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4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各引脚功能特性如下：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895480"/>
            <a:ext cx="73915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LK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时钟频率，为输入信号。它控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传送的速率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37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内部操作的定时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片选信号，为输入信号。低电平有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ESE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复位信号，为输入信号，高电平有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1219320"/>
            <a:ext cx="7467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EAD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准备就绪信号，为输入信号，高电平有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DST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地址选通信号，为输出信号，高电平有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E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地址允许信号，为输出信号，高电平有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EM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寄存器读信号，为输出信号，低电平有效。当此信号有效时，被选中的寄存器单元的内容被读到数据总线上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144792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EMW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寄存器写信号，为输出信号，低电平有效。当此信号为低电平时，数据总线上的内容被写入被选中的寄存器单元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O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/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备读信号，为双向信号，低电平有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OW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/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备写信号，双向信号，低电平有效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O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传输结束信号，双向信号，低电平有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1600200"/>
            <a:ext cx="6934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 DREQ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求信号，属输入信号，高电平有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CK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响应信号，属于输出信号，高电平有效。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RQ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总线请求信号，属于输出信号，高电平有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00200" y="1676520"/>
            <a:ext cx="65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676520"/>
            <a:ext cx="739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LD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总线响应信号，属于输入信号，高电平有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7~A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地址线，双向信号在进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传输时提供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地址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3~A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地址线，双向信号。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B7~DB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双向数据线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76520" y="946080"/>
            <a:ext cx="5181480" cy="5073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318440" y="1066680"/>
            <a:ext cx="546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2  8237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引脚功能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989280"/>
            <a:ext cx="7543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4.2.3  8237A</a:t>
            </a: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内部寄存器及其作用</a:t>
            </a:r>
            <a:endParaRPr b="1" lang="en-US" sz="28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00040" y="1681200"/>
            <a:ext cx="34290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工作方式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2514600"/>
            <a:ext cx="41911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单字节传输方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块传输方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 Narrow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请求传输方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 Narrow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级连传输方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666880" y="762120"/>
            <a:ext cx="3810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方式寄存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1523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37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方式寄存器格式如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3962520"/>
            <a:ext cx="6782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其中各位说明如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7D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工作方式选择。可以在四种工作方式中任选一种，见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70106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14600" y="17524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1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工作方式选择逻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693396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1523880"/>
            <a:ext cx="754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地址寄存增减方式选择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动预置功能选择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3D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数据传输类型选择。其含义如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1D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通道选择。它用来选择四个通道。其选择如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837000"/>
            <a:ext cx="5715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本章学习目标</a:t>
            </a:r>
            <a:endParaRPr b="1" lang="en-US" sz="36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680840"/>
            <a:ext cx="74674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基本功能和在微机系统中的应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Intel 8237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功能及组成和工作原理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在微机系统中的应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Intel 8253/825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定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计数器的功能及应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SIC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基本功能 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7515000" y="6262560"/>
            <a:ext cx="10036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09680" y="16002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2  DM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数据传输类型选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676520" y="2438280"/>
          <a:ext cx="5913360" cy="24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438280"/>
                    <a:ext cx="5913360" cy="24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742840" y="762120"/>
            <a:ext cx="3809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控制存储器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6096240" cy="2082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71800" y="1600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3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通道选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447920" y="4952880"/>
          <a:ext cx="6858000" cy="10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4952880"/>
                    <a:ext cx="68580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66880" y="1676520"/>
            <a:ext cx="5715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响应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求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扩展写信号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优先级管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时序选择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允许操作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存储器间数据传输允许位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914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各数据位说明如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133720" y="7621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状态寄存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3200400"/>
          <a:ext cx="6629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200400"/>
                    <a:ext cx="6629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743200" y="1981080"/>
            <a:ext cx="4343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态寄存器的格式如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895480" y="8377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请求寄存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1600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其格式如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1295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057400" y="4724280"/>
            <a:ext cx="5181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3733920"/>
            <a:ext cx="670536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各位的含义如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D7~D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未定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D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求标志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D1~D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通道选择位。如表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4.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600200" y="2133720"/>
            <a:ext cx="6171840" cy="2971440"/>
            <a:chOff x="1600200" y="2133720"/>
            <a:chExt cx="6171840" cy="2971440"/>
          </a:xfrm>
        </p:grpSpPr>
        <p:grpSp>
          <p:nvGrpSpPr>
            <p:cNvPr id="177" name=""/>
            <p:cNvGrpSpPr/>
            <p:nvPr/>
          </p:nvGrpSpPr>
          <p:grpSpPr>
            <a:xfrm>
              <a:off x="1608120" y="2142360"/>
              <a:ext cx="6154560" cy="2953440"/>
              <a:chOff x="1608120" y="2142360"/>
              <a:chExt cx="6154560" cy="295344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1608120" y="2142360"/>
                <a:ext cx="3185640" cy="1097640"/>
                <a:chOff x="1608120" y="2142360"/>
                <a:chExt cx="3185640" cy="10976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724760" y="2142360"/>
                  <a:ext cx="29520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D1              D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608120" y="2142360"/>
                  <a:ext cx="3185640" cy="109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794120" y="2142360"/>
                <a:ext cx="2968560" cy="1097640"/>
                <a:chOff x="4794120" y="2142360"/>
                <a:chExt cx="2968560" cy="10976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910040" y="2142360"/>
                  <a:ext cx="273564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功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 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能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794120" y="2142360"/>
                  <a:ext cx="2968560" cy="109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1608120" y="3240360"/>
                <a:ext cx="3185640" cy="1855440"/>
                <a:chOff x="1608120" y="3240360"/>
                <a:chExt cx="3185640" cy="18554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24760" y="3240360"/>
                  <a:ext cx="2952000" cy="185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                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                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1                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1                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608120" y="3240360"/>
                  <a:ext cx="3185640" cy="185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4794120" y="3240360"/>
                <a:ext cx="2968560" cy="1855440"/>
                <a:chOff x="4794120" y="3240360"/>
                <a:chExt cx="2968560" cy="18554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910040" y="3240360"/>
                  <a:ext cx="2735640" cy="185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选择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通道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选择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通道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选择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通道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选择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通道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794120" y="3240360"/>
                  <a:ext cx="2968560" cy="185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" name=""/>
            <p:cNvSpPr/>
            <p:nvPr/>
          </p:nvSpPr>
          <p:spPr>
            <a:xfrm>
              <a:off x="1600200" y="2133720"/>
              <a:ext cx="6171840" cy="2971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666880" y="1066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4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通道选择标志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628720" y="76176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屏蔽寄存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1447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其格式如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553080" cy="1371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3352680"/>
            <a:ext cx="64767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各位的含义如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7~D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未定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屏蔽设置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1~D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通道选择位。如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屏蔽标志是通过往屏蔽寄存器中写入屏蔽字节来进行设置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666880" y="9144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5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通道屏蔽选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81080" y="2133720"/>
            <a:ext cx="5257440" cy="3352320"/>
            <a:chOff x="1981080" y="2133720"/>
            <a:chExt cx="5257440" cy="3352320"/>
          </a:xfrm>
        </p:grpSpPr>
        <p:grpSp>
          <p:nvGrpSpPr>
            <p:cNvPr id="198" name=""/>
            <p:cNvGrpSpPr/>
            <p:nvPr/>
          </p:nvGrpSpPr>
          <p:grpSpPr>
            <a:xfrm>
              <a:off x="1986480" y="2138760"/>
              <a:ext cx="5245200" cy="3341160"/>
              <a:chOff x="1986480" y="2138760"/>
              <a:chExt cx="5245200" cy="334116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1986480" y="2138760"/>
                <a:ext cx="2557080" cy="667800"/>
                <a:chOff x="1986480" y="2138760"/>
                <a:chExt cx="2557080" cy="6678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070360" y="2138760"/>
                  <a:ext cx="238896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D1                D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986480" y="2138760"/>
                  <a:ext cx="255708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543920" y="2138760"/>
                <a:ext cx="2687760" cy="667800"/>
                <a:chOff x="4543920" y="2138760"/>
                <a:chExt cx="2687760" cy="6678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627440" y="2138760"/>
                  <a:ext cx="252000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功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  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能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543920" y="2138760"/>
                  <a:ext cx="268776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986480" y="2806920"/>
                <a:ext cx="2557080" cy="667800"/>
                <a:chOff x="1986480" y="2806920"/>
                <a:chExt cx="2557080" cy="667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070360" y="2806920"/>
                  <a:ext cx="238896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                  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986480" y="2806920"/>
                  <a:ext cx="255708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4543920" y="2806920"/>
                <a:ext cx="2687760" cy="667800"/>
                <a:chOff x="4543920" y="2806920"/>
                <a:chExt cx="2687760" cy="6678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627440" y="2806920"/>
                  <a:ext cx="252000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选择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通道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543920" y="2806920"/>
                  <a:ext cx="268776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986480" y="3475080"/>
                <a:ext cx="2557080" cy="668160"/>
                <a:chOff x="1986480" y="3475080"/>
                <a:chExt cx="2557080" cy="6681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070360" y="3475080"/>
                  <a:ext cx="238896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0                  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986480" y="3475080"/>
                  <a:ext cx="2557080" cy="66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543920" y="3475080"/>
                <a:ext cx="2687760" cy="668160"/>
                <a:chOff x="4543920" y="3475080"/>
                <a:chExt cx="2687760" cy="6681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627440" y="3475080"/>
                  <a:ext cx="252000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选择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通道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543920" y="3475080"/>
                  <a:ext cx="2687760" cy="66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1986480" y="4143960"/>
                <a:ext cx="2557080" cy="667800"/>
                <a:chOff x="1986480" y="4143960"/>
                <a:chExt cx="2557080" cy="6678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2070360" y="4143960"/>
                  <a:ext cx="238896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1                  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986480" y="4143960"/>
                  <a:ext cx="255708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543920" y="4143960"/>
                <a:ext cx="2687760" cy="667800"/>
                <a:chOff x="4543920" y="4143960"/>
                <a:chExt cx="2687760" cy="6678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627440" y="4143960"/>
                  <a:ext cx="252000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选择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通道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43920" y="4143960"/>
                  <a:ext cx="268776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1986480" y="4812120"/>
                <a:ext cx="2557080" cy="667800"/>
                <a:chOff x="1986480" y="4812120"/>
                <a:chExt cx="2557080" cy="6678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70360" y="4812120"/>
                  <a:ext cx="238896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1                  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986480" y="4812120"/>
                  <a:ext cx="255708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543920" y="4812120"/>
                <a:ext cx="2687760" cy="667800"/>
                <a:chOff x="4543920" y="4812120"/>
                <a:chExt cx="2687760" cy="6678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627440" y="4812120"/>
                  <a:ext cx="2520000" cy="66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选择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通道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543920" y="4812120"/>
                  <a:ext cx="2687760" cy="66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9" name=""/>
            <p:cNvSpPr/>
            <p:nvPr/>
          </p:nvSpPr>
          <p:spPr>
            <a:xfrm>
              <a:off x="1981080" y="2133720"/>
              <a:ext cx="5257440" cy="3352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676520" y="15238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37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也可以用综合屏蔽命令来设置通道的屏蔽触发器，其格式如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295280" y="3276720"/>
          <a:ext cx="746784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746784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123720" y="1294920"/>
            <a:ext cx="3581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先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后触发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23623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后触发器是为控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道中地址寄存器和字节计数器的初值而设置的，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后触发器就用来控制这两次传输数据的次序的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9889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4.1  DMA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系统概述</a:t>
            </a:r>
            <a:endParaRPr b="1" lang="en-US" sz="36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71440" y="2057040"/>
            <a:ext cx="4986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" action="ppaction://hlinksldjump"/>
              </a:rPr>
              <a:t>4.1.1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2" action="ppaction://hlinksldjump"/>
              </a:rPr>
              <a:t>DMA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3" action="ppaction://hlinksldjump"/>
              </a:rPr>
              <a:t>概述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4" action="ppaction://hlinksldjump"/>
              </a:rPr>
              <a:t>4.1.2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5" action="ppaction://hlinksldjump"/>
              </a:rPr>
              <a:t>DMA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6" action="ppaction://hlinksldjump"/>
              </a:rPr>
              <a:t>的功能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15000" y="6262560"/>
            <a:ext cx="10036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676520" y="837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8237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各寄存器的端口地址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95280" y="1676520"/>
          <a:ext cx="6858000" cy="34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8580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905120" y="52578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6  8237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操作端口地址与命令一览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4920" y="79344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4.3  8237A DMA</a:t>
            </a:r>
            <a:r>
              <a:rPr b="1" lang="zh-CN" sz="3200" spc="-1" strike="noStrike">
                <a:solidFill>
                  <a:srgbClr val="66ffcc"/>
                </a:solidFill>
                <a:latin typeface="Times New Roman"/>
              </a:rPr>
              <a:t>可编程控制在微机系统中的应用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828440" y="2209320"/>
            <a:ext cx="579132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" action="ppaction://hlinksldjump"/>
              </a:rPr>
              <a:t>4.3.1  8237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2" action="ppaction://hlinksldjump"/>
              </a:rPr>
              <a:t>A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3" action="ppaction://hlinksldjump"/>
              </a:rPr>
              <a:t>的编程及其应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4" action="ppaction://hlinksldjump"/>
              </a:rPr>
              <a:t>4.3.2  编程实例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5" action="ppaction://hlinksldjump"/>
              </a:rPr>
              <a:t>4.3.3  8237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6" action="ppaction://hlinksldjump"/>
              </a:rPr>
              <a:t>A DMA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7" action="ppaction://hlinksldjump"/>
              </a:rPr>
              <a:t>可编程控制与微机系统的接口电路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">
            <a:hlinkClick r:id="rId8" action="ppaction://hlinksldjump"/>
          </p:cNvPr>
          <p:cNvSpPr/>
          <p:nvPr/>
        </p:nvSpPr>
        <p:spPr>
          <a:xfrm>
            <a:off x="7515000" y="6262560"/>
            <a:ext cx="10036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2640" y="637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Arial"/>
              </a:rPr>
              <a:t>4.3.1  8237A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的编程及其应用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28440" y="1447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系统结构及主要性能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676520" y="2057400"/>
          <a:ext cx="6248160" cy="33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624816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2514600" y="5562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3  D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系统逻辑结构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752480" y="53341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7  PC/A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微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系统的基本性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209680" y="838080"/>
          <a:ext cx="5334120" cy="41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838080"/>
                    <a:ext cx="5334120" cy="41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438280" y="68544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8237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编程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1371600"/>
            <a:ext cx="73152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初始化通道方式寄存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预置该通道的基地址和当前地址寄存器（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）与页面寄存器（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或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求传输的字节数，将其值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并预置该通道的基地址及当前字节（或字节计数器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判断传输的数据量是否已经超出边界，若出界则返回错误代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开放通道，并允许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REQ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360" y="759600"/>
            <a:ext cx="4800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4.3.2  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编程实例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1600200"/>
            <a:ext cx="7010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初始化通道方式寄存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预置该通道的基地址和当前地址寄存器与页面寄存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求传输的字节数，将其值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并预置该通道的基地址及当前字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判断传输的数据量是否已经超出边界，若出界则返回错误代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开放通道，并允许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REQ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752480" y="1981080"/>
            <a:ext cx="6629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初始化通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入口参数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=D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方式字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读盘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写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=046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写盘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读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=04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H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传输的扇区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X=RA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缓冲区首地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定义要使用的符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MA EQU 0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通道端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9144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下面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/A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机的软盘驱动器与存储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之间进行数据交换的实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447920" y="1371600"/>
            <a:ext cx="70102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MA1 EQU 0C0H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通道端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AM08 EUQ 08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命令寄存器地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MA18 EUQ 0D0H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命令寄存器地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—SET PROC NEAR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MA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初始化过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USH CX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保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LI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关中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UT DMA+12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清除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后触发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JMP SHORT $+2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满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/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时要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23880" y="1371600"/>
            <a:ext cx="6858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初始化方式寄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UT DMA+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写方式寄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 A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S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取寄存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RA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段地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 C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ROL A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L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循环左移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 C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保存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ND A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F0H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取低落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地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DD A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600200" y="1447920"/>
            <a:ext cx="6095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JNC J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C CH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有进位加到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地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初始化地址寄存器和页面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J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USH AX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保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地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UT DMA+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预置通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地址寄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JMP SHORT $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 AL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UT DMA+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先低字节，后高字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83628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Arial"/>
              </a:rPr>
              <a:t>4.1.1  DMA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概述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方式就是直接存储器存取工作方式。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方式下，外设通过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控制器向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提出接管总线控制权的总线要求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在当前的总线周期结束后，响应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请求，并把总线控制权交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控制器。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控制器的管理下，外设和寄存器之间就可以直接进行数据交换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905120" y="1447920"/>
            <a:ext cx="6019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 A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H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取最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地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JMP SHORT $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ND AL,0F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UT 08LH, AL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预置通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应的页面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初始化字节计数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 AH,DH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取传输扇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UB AL,AL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乘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5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L=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23880" y="1447920"/>
            <a:ext cx="7010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HR AX,1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右移，即变成乘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USH AX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保存“扇区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2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乘积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 BX,6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取软盘基数：每扇区字节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ALL GET PARM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调用取基数子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 CL,AH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返回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基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保存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OP AX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取出乘积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HL AX,CL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右移返回值次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EC AX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传输字节值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471680"/>
            <a:ext cx="6705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USH AX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保存字节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UT DMA+5,AL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预防、置字节数计数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JMP SHORT $+2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 AL,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UT DMA+5,AL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先低字节，后高字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判断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否出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TI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开中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OP CX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传输字节数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828800" y="1471680"/>
            <a:ext cx="6172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OP AX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位移地址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DD AX,CX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相加，若溢出段界则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F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OP CX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恢复入口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开通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OV AX,2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清除通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屏蔽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OUT DMA+10,AL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写屏蔽寄存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RET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返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—SET ENDP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结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0102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4.3.3  8237A DMA</a:t>
            </a: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可编程控制与微机系统的接口电路</a:t>
            </a:r>
            <a:endParaRPr b="1" lang="en-US" sz="28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用于将数据从存储器传送到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I/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接口的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控制电路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用于将数据从</a:t>
            </a:r>
            <a:r>
              <a:rPr b="1" lang="zh-CN" sz="3000" spc="-1" strike="noStrike">
                <a:solidFill>
                  <a:srgbClr val="ffffff"/>
                </a:solidFill>
                <a:latin typeface="Arial Black"/>
                <a:ea typeface="楷体_GB2312"/>
              </a:rPr>
              <a:t>I/O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接口传送到内存的接口电路</a:t>
            </a:r>
            <a:endParaRPr b="1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7756560" y="2514600"/>
            <a:ext cx="549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2133720" y="1600200"/>
          <a:ext cx="542592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542592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1600200" y="5334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4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通道实现内存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/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接口的电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1905120" y="1371600"/>
          <a:ext cx="61722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1600"/>
                    <a:ext cx="61722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905120" y="571500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.5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通道实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I/O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到内存接口的电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0920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10040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4.4  </a:t>
            </a:r>
            <a:r>
              <a:rPr b="1" lang="zh-CN" sz="3200" spc="-1" strike="noStrike">
                <a:solidFill>
                  <a:srgbClr val="66ffcc"/>
                </a:solidFill>
                <a:latin typeface="Times New Roman"/>
              </a:rPr>
              <a:t>可编程计数</a:t>
            </a:r>
            <a:r>
              <a:rPr b="1" lang="zh-CN" sz="32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/</a:t>
            </a:r>
            <a:r>
              <a:rPr b="1" lang="zh-CN" sz="3200" spc="-1" strike="noStrike">
                <a:solidFill>
                  <a:srgbClr val="66ffcc"/>
                </a:solidFill>
                <a:latin typeface="Times New Roman"/>
              </a:rPr>
              <a:t>定时器</a:t>
            </a:r>
            <a:r>
              <a:rPr b="1" lang="zh-CN" sz="32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8253/8254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6400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" action="ppaction://hlinksldjump"/>
              </a:rPr>
              <a:t>4.4.1  8253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2" action="ppaction://hlinksldjump"/>
              </a:rPr>
              <a:t>的组成与功能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3" action="ppaction://hlinksldjump"/>
              </a:rPr>
              <a:t>4.4.2  8253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4" action="ppaction://hlinksldjump"/>
              </a:rPr>
              <a:t>与系统的连接应用实例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">
            <a:hlinkClick r:id="rId5" action="ppaction://hlinksldjump"/>
          </p:cNvPr>
          <p:cNvSpPr/>
          <p:nvPr/>
        </p:nvSpPr>
        <p:spPr>
          <a:xfrm>
            <a:off x="7515000" y="6262560"/>
            <a:ext cx="10036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2640" y="91260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Arial"/>
              </a:rPr>
              <a:t>4.4.1  8253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的组成与功能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361960" y="3047760"/>
            <a:ext cx="55623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个独立的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位计数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4114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计数器分别为计数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计数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计数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每个计数器的内部逻辑结构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905120"/>
            <a:ext cx="655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4.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图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4.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为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253/825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内部结构及引脚图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133720" y="56386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6   8253/825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内部结构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624852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91260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Arial"/>
              </a:rPr>
              <a:t>4.1.2  DMA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的功能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23888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外设通过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控制器向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提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申请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控制器接受外设的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请求，取得总线控制权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总线载决逻辑对总线申请进行载决，把总线控制权交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控制器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2057400" y="1143000"/>
          <a:ext cx="4294080" cy="44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143000"/>
                    <a:ext cx="4294080" cy="44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6724080" y="1828800"/>
            <a:ext cx="911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7  825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引脚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2209680" y="1371600"/>
          <a:ext cx="5334120" cy="38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53341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22096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8   8253/825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计数器内部逻辑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742840" y="837720"/>
            <a:ext cx="426708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控制命令寄存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"/>
          <p:cNvSpPr/>
          <p:nvPr/>
        </p:nvSpPr>
        <p:spPr>
          <a:xfrm>
            <a:off x="1219320" y="19051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此寄存器用来保存来自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送入的控制字。每个计数器都有一个控制命令寄存器，用于保存该计数器的控制信息。控制字将决定计数器的工作方式、计数形式及输出方式，也能决定应如何装入计数器初值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5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控制寄存器只占用一个地址号，而靠控制字中最高二位来指定当前的控制字是发给哪一个计数器的。控制寄存器只能写入，不能读取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895120" y="1295280"/>
            <a:ext cx="3886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读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写逻辑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1066680" y="251460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写逻辑的任务是接收来自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控制信号，完成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5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各计数寄存器的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写操作。这些控制信号包括读信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写信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W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片选信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片内寄存器对址信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743200" y="9140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数据总线缓冲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2057400"/>
            <a:ext cx="76197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是一个双向、三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缓冲器。它用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5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系统数据总线连接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过数据总线缓冲器将控制命令字和计数值写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5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计数器，或者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5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计数器读取当前计数值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5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位数据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0~D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常与系统数据总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0~D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相连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5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共占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/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地址。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5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各端口的地址分配见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666880" y="1295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8  825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端口的地址分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95280" y="2286000"/>
          <a:ext cx="74678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7467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912960"/>
            <a:ext cx="746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4.4.2  8253</a:t>
            </a: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与系统的连接应用实例</a:t>
            </a:r>
            <a:endParaRPr b="1" lang="en-US" sz="28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4.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25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作方波发生器与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8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总线的接口方法。图中仅用了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A7~A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作为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25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片选地址线，产生片选信号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Y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25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C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端相连。要求计数器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作方波发生器产生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40KH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方波输出。已知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CLK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时钟端输入信号频率为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2MH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895480" y="54864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4.9  825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808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总线的连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828800" y="1219320"/>
          <a:ext cx="601992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601992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98820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4.5  </a:t>
            </a:r>
            <a:r>
              <a:rPr b="1" lang="zh-CN" sz="3200" spc="-1" strike="noStrike">
                <a:solidFill>
                  <a:srgbClr val="66ffcc"/>
                </a:solidFill>
                <a:latin typeface="Times New Roman"/>
              </a:rPr>
              <a:t>多功能</a:t>
            </a:r>
            <a:r>
              <a:rPr b="1" lang="zh-CN" sz="32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I/O</a:t>
            </a:r>
            <a:r>
              <a:rPr b="1" lang="zh-CN" sz="3200" spc="-1" strike="noStrike">
                <a:solidFill>
                  <a:srgbClr val="66ffcc"/>
                </a:solidFill>
                <a:latin typeface="Times New Roman"/>
              </a:rPr>
              <a:t>接口电路</a:t>
            </a:r>
            <a:r>
              <a:rPr b="1" lang="zh-CN" sz="32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82380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361960" y="1904760"/>
            <a:ext cx="571500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" action="ppaction://hlinksldjump"/>
              </a:rPr>
              <a:t>4.5.1  82380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2" action="ppaction://hlinksldjump"/>
              </a:rPr>
              <a:t>内部功能块结构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3" action="ppaction://hlinksldjump"/>
              </a:rPr>
              <a:t>4.5.2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4" action="ppaction://hlinksldjump"/>
              </a:rPr>
              <a:t>DMA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5" action="ppaction://hlinksldjump"/>
              </a:rPr>
              <a:t>控制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6" action="ppaction://hlinksldjump"/>
              </a:rPr>
              <a:t>4.5.3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7" action="ppaction://hlinksldjump"/>
              </a:rPr>
              <a:t>可编程中断控制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8" action="ppaction://hlinksldjump"/>
              </a:rPr>
              <a:t>4.5.4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9" action="ppaction://hlinksldjump"/>
              </a:rPr>
              <a:t>可编程定时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0" action="ppaction://hlinksldjump"/>
              </a:rPr>
              <a:t>/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11" action="ppaction://hlinksldjump"/>
              </a:rPr>
              <a:t>计数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2" action="ppaction://hlinksldjump"/>
              </a:rPr>
              <a:t>4.5.5  82380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13" action="ppaction://hlinksldjump"/>
              </a:rPr>
              <a:t>与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4" action="ppaction://hlinksldjump"/>
              </a:rPr>
              <a:t>80386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5" action="ppaction://hlinksldjump"/>
              </a:rPr>
              <a:t>CPU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16" action="ppaction://hlinksldjump"/>
              </a:rPr>
              <a:t>的连接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">
            <a:hlinkClick r:id="rId17" action="ppaction://hlinksldjump"/>
          </p:cNvPr>
          <p:cNvSpPr/>
          <p:nvPr/>
        </p:nvSpPr>
        <p:spPr>
          <a:xfrm>
            <a:off x="7515000" y="6262560"/>
            <a:ext cx="10036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91260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Arial"/>
              </a:rPr>
              <a:t>4.5.1  82380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内部功能块结构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752480" y="1905120"/>
          <a:ext cx="4800600" cy="42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48006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7012800" y="2362320"/>
            <a:ext cx="91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10  8238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内部功能体系结构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1523880"/>
            <a:ext cx="7010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19320" y="137160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控制器通知外设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应答，开始进入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传输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控制器按传输数据的长度直接控制外设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RA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进行数据交换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操作结束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控制器向外设输出计数终止信号，通过接口提出中断申请，并把总线控制权交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完成一次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传控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360" y="121680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4.5.2  DMA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控制器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52480" y="198072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8238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内部有一个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通道的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位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控制器，如图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.1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所示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控制器可以在如下设备之间进行数据传输：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I/O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I/O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设备之间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存储器与存储器之间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存储器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I/O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设备之间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1752480" y="1295280"/>
          <a:ext cx="510552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295280"/>
                    <a:ext cx="510552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7395120" y="1905120"/>
            <a:ext cx="790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.11  82380DM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控制器结构示意框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219320" y="1905120"/>
            <a:ext cx="7467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REQ0~DREQ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外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求的输入信号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OL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38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处理器芯片组向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总线请求信号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LD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向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38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芯片发出的总线响应信号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O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程结束时产生的一个双向信号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1066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下面介绍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工作过程的有关控制信号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83628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4.5.3  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可编程中断控制器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五个内部中断源如下：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7936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IRQ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计数器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IRQ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计数器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由这两个计数器的输出端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TOU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上升沿触发中断请求信号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279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IRQ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IRQ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于内部的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。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IRQ1.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238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芯片内中断层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比其他中断层多增加的一个中断请求输入。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743200" y="2666880"/>
            <a:ext cx="4648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932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 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断请求寄存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R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932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 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优先权分解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932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  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服务寄存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S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932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断屏蔽请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M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932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矢量寄存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13716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38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断控制器的功能块框图。它由以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主要功能块组成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86000" y="5562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12  8238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断控制器功能示意框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828800" y="1143000"/>
          <a:ext cx="5722920" cy="40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43000"/>
                    <a:ext cx="572292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98820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4.5.4  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可编程定时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/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计数器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19320" y="1763640"/>
            <a:ext cx="731520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8238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内部有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个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位可编程定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计数器，称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#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#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#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#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2819520"/>
            <a:ext cx="73915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4.1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为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82380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可编程定时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计数器功能块框图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定时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计数器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0#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计数、定时到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利用输出信号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TOUT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上升沿产生中断请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IRQ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43000" y="1828800"/>
            <a:ext cx="716292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定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计数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#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：用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RA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定时刷新控制。定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计数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#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：其输出端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TOUT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和中断请求线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IRQ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相连引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定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计数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#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：它用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8238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内部产生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IRQ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断请求，另一方面通过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TOUT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引出作为一个通用的外部信号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912960"/>
            <a:ext cx="7543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4.5.5  82380</a:t>
            </a: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与</a:t>
            </a: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80386 CPU</a:t>
            </a: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的连接</a:t>
            </a:r>
            <a:endParaRPr b="1" lang="en-US" sz="2800" spc="-1" strike="noStrike">
              <a:solidFill>
                <a:srgbClr val="66ffcc"/>
              </a:solidFill>
              <a:latin typeface="Arial Black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752480" y="1711440"/>
          <a:ext cx="520236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711440"/>
                    <a:ext cx="520236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7394040" y="2362320"/>
            <a:ext cx="911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14  8238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80386 CP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连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066680" y="1905120"/>
            <a:ext cx="7391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简要说明如下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地址总线  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数据总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时钟信号  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复位信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总线周期的定义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地址状态信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下一个地址请求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传送确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中断请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12193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38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386 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共享一个共用的局部总线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9889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4.2  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可编程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DMA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控制器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8237A</a:t>
            </a:r>
            <a:endParaRPr b="1" lang="en-US" sz="36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5120" y="2133360"/>
            <a:ext cx="632448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" action="ppaction://hlinksldjump"/>
              </a:rPr>
              <a:t>4.2.1  8237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2" action="ppaction://hlinksldjump"/>
              </a:rPr>
              <a:t>A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3" action="ppaction://hlinksldjump"/>
              </a:rPr>
              <a:t>的内部结构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4" action="ppaction://hlinksldjump"/>
              </a:rPr>
              <a:t>4.2.2  8237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5" action="ppaction://hlinksldjump"/>
              </a:rPr>
              <a:t>A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6" action="ppaction://hlinksldjump"/>
              </a:rPr>
              <a:t>的外部引脚及其功能特性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1896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7" action="ppaction://hlinksldjump"/>
              </a:rPr>
              <a:t>4.2.3  8237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8" action="ppaction://hlinksldjump"/>
              </a:rPr>
              <a:t>A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9" action="ppaction://hlinksldjump"/>
              </a:rPr>
              <a:t>内部寄存器及其作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7515000" y="6262560"/>
            <a:ext cx="10036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59436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cc"/>
                </a:solidFill>
                <a:latin typeface="Arial"/>
              </a:rPr>
              <a:t>4.6  </a:t>
            </a:r>
            <a:r>
              <a:rPr b="1" lang="zh-CN" sz="2800" spc="-1" strike="noStrike">
                <a:solidFill>
                  <a:srgbClr val="66ffcc"/>
                </a:solidFill>
                <a:latin typeface="Times New Roman"/>
              </a:rPr>
              <a:t>现代微型计算机系统接   口控制逻辑（</a:t>
            </a:r>
            <a:r>
              <a:rPr b="1" lang="zh-CN" sz="2800" spc="-1" strike="noStrike">
                <a:solidFill>
                  <a:srgbClr val="66ffcc"/>
                </a:solidFill>
                <a:latin typeface="Arial"/>
              </a:rPr>
              <a:t>SICL</a:t>
            </a:r>
            <a:r>
              <a:rPr b="1" lang="zh-CN" sz="2800" spc="-1" strike="noStrike">
                <a:solidFill>
                  <a:srgbClr val="66ffc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133720" y="19807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" action="ppaction://hlinksldjump"/>
              </a:rPr>
              <a:t>4.6.1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2" action="ppaction://hlinksldjump"/>
              </a:rPr>
              <a:t>系统接口控制逻辑典型功能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3" action="ppaction://hlinksldjump"/>
              </a:rPr>
              <a:t>4.6.2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4" action="ppaction://hlinksldjump"/>
              </a:rPr>
              <a:t>系统接口控制逻辑的功能配置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5" action="ppaction://hlinksldjump"/>
              </a:rPr>
              <a:t>4.6.3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6" action="ppaction://hlinksldjump"/>
              </a:rPr>
              <a:t>PCI/ISA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7" action="ppaction://hlinksldjump"/>
              </a:rPr>
              <a:t>转换控制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8" action="ppaction://hlinksldjump"/>
              </a:rPr>
              <a:t>4.6.4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9" action="ppaction://hlinksldjump"/>
              </a:rPr>
              <a:t>存储器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10" action="ppaction://hlinksldjump"/>
              </a:rPr>
              <a:t>与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1" action="ppaction://hlinksldjump"/>
              </a:rPr>
              <a:t>I/O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12" action="ppaction://hlinksldjump"/>
              </a:rPr>
              <a:t>地址映射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3" action="ppaction://hlinksldjump"/>
              </a:rPr>
              <a:t>4.6.5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Arial"/>
                <a:hlinkClick r:id="rId14" action="ppaction://hlinksldjump"/>
              </a:rPr>
              <a:t>PCI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15" action="ppaction://hlinksldjump"/>
              </a:rPr>
              <a:t>接口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16" action="ppaction://hlinksldjump"/>
              </a:rPr>
              <a:t>4.6.6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17" action="ppaction://hlinksldjump"/>
              </a:rPr>
              <a:t>  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18" action="ppaction://hlinksldjump"/>
              </a:rPr>
              <a:t>DMA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19" action="ppaction://hlinksldjump"/>
              </a:rPr>
              <a:t>控制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20" action="ppaction://hlinksldjump"/>
              </a:rPr>
              <a:t>4.6.7  中断控制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33"/>
                </a:solidFill>
                <a:uFillTx/>
                <a:latin typeface="Arial"/>
                <a:ea typeface="黑体"/>
                <a:hlinkClick r:id="rId21" action="ppaction://hlinksldjump"/>
              </a:rPr>
              <a:t>4.6.8  定时/计数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"/>
          <p:cNvSpPr/>
          <p:nvPr/>
        </p:nvSpPr>
        <p:spPr>
          <a:xfrm>
            <a:off x="7515000" y="6262560"/>
            <a:ext cx="10036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2640" y="912960"/>
            <a:ext cx="7543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4.6.1  </a:t>
            </a: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系统接口控制逻辑典型功能</a:t>
            </a:r>
            <a:endParaRPr b="1" lang="en-US" sz="28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6705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多功能的“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至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IS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转换控制逻辑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定时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计数功能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中断管理功能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控制功能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接口功能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US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控功能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其他系统辅助功能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灵活的系统配置功能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720" y="9129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4.6.2  </a:t>
            </a: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系统接口控制逻辑的功能配置</a:t>
            </a:r>
            <a:endParaRPr b="1" lang="en-US" sz="28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2388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其总线编号与第二级总线编号匹配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对于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至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ISA/IDE/US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备接口，其设备编号为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对于具有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扩展的接口，其设备编号为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3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如与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Intel 8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芯片组配合使用的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I/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器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280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其功能编号则根据不同设备所具有的不同功能而不同，对于设备编号为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兼容性接口设备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 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523880" y="1371600"/>
            <a:ext cx="70106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932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功能编号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兼容性设备或模块，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器、定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计数器、中断控制器、实时时钟、电源管理及系统管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M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932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功能编号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932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功能编号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US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932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功能编号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应系统管理总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MBU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器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00200" y="1752480"/>
            <a:ext cx="6248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932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功能编号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应系统管理总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MBU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器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932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功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能编号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于系统保留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932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功能编号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应音频控制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932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功能编号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ODE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98820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4.6.3  PCI/ISA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转换控制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470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代微机系统控制逻辑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SIC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的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至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IS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换控制逻辑具有多种基于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IS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备的管理与控制功能，包括存储器与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I/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设备的地址映射、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器、中断控制器、定时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监视器和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总线接口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2640" y="1141560"/>
            <a:ext cx="7543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4.6.4  </a:t>
            </a: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存储器与</a:t>
            </a: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I/O</a:t>
            </a:r>
            <a:r>
              <a:rPr b="1" lang="zh-CN" sz="2800" spc="-1" strike="noStrike">
                <a:solidFill>
                  <a:srgbClr val="66ffcc"/>
                </a:solidFill>
                <a:latin typeface="Arial"/>
                <a:ea typeface="黑体"/>
              </a:rPr>
              <a:t>地址映射</a:t>
            </a:r>
            <a:endParaRPr b="1" lang="en-US" sz="28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727000" y="1955880"/>
            <a:ext cx="4754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I/O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空间的译码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存储器寻址映射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如表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4.9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所示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BIOS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存储区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981080" y="5105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9  DM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主控制器访问主存储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143000" y="1676520"/>
          <a:ext cx="7391520" cy="29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739152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57400" y="1003680"/>
            <a:ext cx="4952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cc"/>
                </a:solidFill>
                <a:latin typeface="Arial"/>
                <a:ea typeface="黑体"/>
              </a:rPr>
              <a:t>4.6.5  PCI</a:t>
            </a:r>
            <a:r>
              <a:rPr b="1" lang="zh-CN" sz="3600" spc="-1" strike="noStrike">
                <a:solidFill>
                  <a:srgbClr val="66ffcc"/>
                </a:solidFill>
                <a:latin typeface="Arial"/>
                <a:ea typeface="黑体"/>
              </a:rPr>
              <a:t>接口</a:t>
            </a:r>
            <a:endParaRPr b="1" lang="en-US" sz="36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895480" y="2133720"/>
            <a:ext cx="426744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传输操作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校验操作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总线仲裁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ISA/EI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接口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/>
          <p:cNvSpPr/>
          <p:nvPr/>
        </p:nvSpPr>
        <p:spPr>
          <a:xfrm>
            <a:off x="1676520" y="4114800"/>
            <a:ext cx="662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371600" y="1600200"/>
            <a:ext cx="7086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EI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接口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接口不同的是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EI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不支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控制器周期，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EI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只允许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位的寻址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EI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不支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刷新周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75960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Arial"/>
              </a:rPr>
              <a:t>4.2.1  8237A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的内部结构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其内部结构如图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4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地址寄存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地址寄存器、基地址寄存器、当前地址寄存器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字节数寄存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节数寄存器、基本字节寄存器、当前字节计数器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114120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4.6.6  DMA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控制器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95160" y="2133360"/>
            <a:ext cx="7018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SIC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的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控制逻辑在功能上兼容两个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8237 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控制器，它具有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级连模式下的全部功能。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361960" y="1064880"/>
            <a:ext cx="472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4.6.7  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中断控制器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803320" y="1955880"/>
            <a:ext cx="497988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常规中断控制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高级可编程中断控制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1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串行中断控制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20040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10  API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中断映射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447920" y="1219320"/>
          <a:ext cx="6454800" cy="39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19320"/>
                    <a:ext cx="645480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98820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4.6.8  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定时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/</a:t>
            </a:r>
            <a:r>
              <a:rPr b="1" lang="zh-CN" sz="3200" spc="-1" strike="noStrike">
                <a:solidFill>
                  <a:srgbClr val="66ffcc"/>
                </a:solidFill>
                <a:latin typeface="Arial"/>
                <a:ea typeface="黑体"/>
              </a:rPr>
              <a:t>计数器</a:t>
            </a:r>
            <a:endParaRPr b="1" lang="en-US" sz="32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系统接口控制逻辑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SIC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包含与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25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完全兼容的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可编程定时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计数通道，计数器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中断控制器的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IRQ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相连，来提供系统所需的时钟中断、磁盘超时或系统所需的其他时序功能；计数器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产生一次刷新请求信号，计数器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产生扬声器的音调控制信号。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142992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66ffcc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69608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</a:rPr>
              <a:t>本章到此结束，</a:t>
            </a:r>
            <a:endParaRPr b="1" lang="en-US" sz="5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</a:rPr>
              <a:t>谢谢您的光临！</a:t>
            </a:r>
            <a:endParaRPr b="1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>
            <a:hlinkClick r:id="rId1" action="ppaction://hlinksldjump"/>
          </p:cNvPr>
          <p:cNvSpPr/>
          <p:nvPr/>
        </p:nvSpPr>
        <p:spPr>
          <a:xfrm>
            <a:off x="7515000" y="6262560"/>
            <a:ext cx="100368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>
            <a:hlinkClick r:id="" action="ppaction://hlinkshowjump?jump=endshow"/>
          </p:cNvPr>
          <p:cNvSpPr/>
          <p:nvPr/>
        </p:nvSpPr>
        <p:spPr>
          <a:xfrm>
            <a:off x="5694480" y="6262560"/>
            <a:ext cx="86652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结 束放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57400" y="5486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1  8237A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内部结构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52480" y="1143000"/>
          <a:ext cx="594360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43000"/>
                    <a:ext cx="594360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7652160" y="6262560"/>
            <a:ext cx="729360" cy="368280"/>
          </a:xfrm>
          <a:prstGeom prst="rect">
            <a:avLst/>
          </a:prstGeom>
          <a:noFill/>
          <a:ln cap="rnd" w="2556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隶书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新人电脑</cp:lastModifiedBy>
  <dcterms:modified xsi:type="dcterms:W3CDTF">2002-01-25T03:12:46Z</dcterms:modified>
  <cp:revision>51</cp:revision>
  <dc:subject/>
  <dc:title>PowerPoint 演示文稿</dc:title>
</cp:coreProperties>
</file>